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F48-213B-4636-8548-C988A0F9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BE2-84B9-4D86-ACE5-BBF7FC0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029-8621-4878-AB6E-50C07AF3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718-3A20-4821-A7D6-813C16F6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CAA-D966-42CA-A3AB-29477A2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1C4-8FEE-4E01-9B8C-CF9FE66E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9B2-416C-43B1-BC07-4E350025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908-BC6C-46FA-A21B-C0C8B80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711-5597-4B5A-8C1A-E28E26A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8DA-E2C1-43EA-9BDB-E439AF4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DA7-947B-4F2E-B19C-18E1FBE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2D6-48BF-4404-B377-51845C7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58E5-4CA1-471B-B0CF-4DACE026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Арбатская средня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128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Эликсир жиз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Калиничук Лари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а 3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Смирнова М.А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 — один из древнейших продуктов. Можно считать, что он появился вместе с молоком. Римские писатели-аграрники (Варрон, Колумелла) свидетельствуют о том, что творог был известен в Древнем Риме. Римляне употребляли в пищу соленый и несоленый творог, а иногда перед употреблением его смешивали с молоком и мед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olidmilk2"/>
          <p:cNvPicPr/>
          <p:nvPr/>
        </p:nvPicPr>
        <p:blipFill>
          <a:blip r:embed="rId1"/>
          <a:stretch/>
        </p:blipFill>
        <p:spPr>
          <a:xfrm>
            <a:off x="1979640" y="2133720"/>
            <a:ext cx="6121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на кефира – Северный Кавказ, народы которого всегда считали его напитком здоровья, бодрости и называли даром бог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ourmilk"/>
          <p:cNvPicPr/>
          <p:nvPr/>
        </p:nvPicPr>
        <p:blipFill>
          <a:blip r:embed="rId1"/>
          <a:stretch/>
        </p:blipFill>
        <p:spPr>
          <a:xfrm>
            <a:off x="1763640" y="1916280"/>
            <a:ext cx="5832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е 4 тыс. лет назад человек впервые познакомился с сыром. С тех пор он прочно занял место среди основных продуктов питания многих народов мир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olidcheese"/>
          <p:cNvPicPr/>
          <p:nvPr/>
        </p:nvPicPr>
        <p:blipFill>
          <a:blip r:embed="rId1"/>
          <a:stretch/>
        </p:blipFill>
        <p:spPr>
          <a:xfrm>
            <a:off x="468360" y="2924280"/>
            <a:ext cx="4174920" cy="332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olidcheese1"/>
          <p:cNvPicPr/>
          <p:nvPr/>
        </p:nvPicPr>
        <p:blipFill>
          <a:blip r:embed="rId2"/>
          <a:stretch/>
        </p:blipFill>
        <p:spPr>
          <a:xfrm>
            <a:off x="4572000" y="2924280"/>
            <a:ext cx="4176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Йогурт –новый вид молочных продук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огурт"/>
          <p:cNvPicPr/>
          <p:nvPr/>
        </p:nvPicPr>
        <p:blipFill>
          <a:blip r:embed="rId1"/>
          <a:stretch/>
        </p:blipFill>
        <p:spPr>
          <a:xfrm>
            <a:off x="2195640" y="1700280"/>
            <a:ext cx="43923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4572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72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826920" y="1413000"/>
            <a:ext cx="3057840" cy="453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3097440" cy="44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11"/>
          <p:cNvGraphicFramePr/>
          <p:nvPr/>
        </p:nvGraphicFramePr>
        <p:xfrm>
          <a:off x="4572000" y="0"/>
          <a:ext cx="457200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572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9475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ологический опрос учеников нашей шко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  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юбите ли вы пить молоко и молочн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8"/>
          <p:cNvGraphicFramePr/>
          <p:nvPr/>
        </p:nvGraphicFramePr>
        <p:xfrm>
          <a:off x="1403280" y="2205000"/>
          <a:ext cx="616752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616752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йте, дети молоко – буде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Позитивные коровки - картинки, коровы, рисунки"/>
          <p:cNvPicPr/>
          <p:nvPr/>
        </p:nvPicPr>
        <p:blipFill>
          <a:blip r:embed="rId1"/>
          <a:stretch/>
        </p:blipFill>
        <p:spPr>
          <a:xfrm>
            <a:off x="971640" y="1476360"/>
            <a:ext cx="6985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равнение жирности молока в летний и зимний пери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оровы"/>
          <p:cNvPicPr/>
          <p:nvPr/>
        </p:nvPicPr>
        <p:blipFill>
          <a:blip r:embed="rId1"/>
          <a:stretch/>
        </p:blipFill>
        <p:spPr>
          <a:xfrm>
            <a:off x="1763640" y="2637000"/>
            <a:ext cx="54723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локо, - писал академик И.П. Павлов, - это изумительная пища, приготовленная самой природой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"/>
          <p:cNvPicPr/>
          <p:nvPr/>
        </p:nvPicPr>
        <p:blipFill>
          <a:blip r:embed="rId1"/>
          <a:stretch/>
        </p:blipFill>
        <p:spPr>
          <a:xfrm>
            <a:off x="2484360" y="2133720"/>
            <a:ext cx="4164120" cy="44528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око содержит свыше ста ценнейших компонентов. В него входят все необходимые для жизнедеятельности  организма вещества: белки, жиры, углеводы, минеральные соли, витамин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"/>
          <p:cNvPicPr/>
          <p:nvPr/>
        </p:nvPicPr>
        <p:blipFill>
          <a:blip r:embed="rId1"/>
          <a:stretch/>
        </p:blipFill>
        <p:spPr>
          <a:xfrm>
            <a:off x="3059280" y="1844640"/>
            <a:ext cx="3090600" cy="475308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пользе козьего молока писалось много, это поистине целебный напиток. Оно лучше всего подходит для детского питания (не считая материнского молока), улучшает самочувствие пожилых людей и страдающих желудочно-кишечными заболевания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озы"/>
          <p:cNvPicPr/>
          <p:nvPr/>
        </p:nvPicPr>
        <p:blipFill>
          <a:blip r:embed="rId1"/>
          <a:stretch/>
        </p:blipFill>
        <p:spPr>
          <a:xfrm>
            <a:off x="1692360" y="1916280"/>
            <a:ext cx="590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блюжье молоко по внешнему виду, вкусу, запаху мало чем отличается от коровьего, однако в нем несколько выше количество всех пищевых веществ( особенно жира). Это молоко используют как в свежем виде, так и для приготовления некоторых кисломолочных продуктов(чал, шуб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_e6dfb082a566b6be4ea3dafcad4930e9"/>
          <p:cNvPicPr/>
          <p:nvPr/>
        </p:nvPicPr>
        <p:blipFill>
          <a:blip r:embed="rId1"/>
          <a:stretch/>
        </p:blipFill>
        <p:spPr>
          <a:xfrm>
            <a:off x="1763640" y="1844640"/>
            <a:ext cx="60501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молока делают творог, масло, кефир, сыр, йогурт и другие кисломолочные прод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1"/>
          <a:stretch/>
        </p:blipFill>
        <p:spPr>
          <a:xfrm>
            <a:off x="2411280" y="1773360"/>
            <a:ext cx="453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я любимица Зорь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4430240" y="12215880"/>
            <a:ext cx="26822520" cy="1918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214200" y="1428840"/>
            <a:ext cx="39816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c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тана — исконно русский национальный продукт, знакомый долгое время только жителям нашей страны. За границу она «проникла» только после второй мировой войны. В некоторых странах сметану называют «русскими сливками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olidmilk"/>
          <p:cNvPicPr/>
          <p:nvPr/>
        </p:nvPicPr>
        <p:blipFill>
          <a:blip r:embed="rId1"/>
          <a:stretch/>
        </p:blipFill>
        <p:spPr>
          <a:xfrm>
            <a:off x="1403280" y="1628640"/>
            <a:ext cx="633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27:57Z</dcterms:created>
  <dc:creator>Марина</dc:creator>
  <dc:description/>
  <dc:language>en-US</dc:language>
  <cp:lastModifiedBy>Марина</cp:lastModifiedBy>
  <dcterms:modified xsi:type="dcterms:W3CDTF">2008-03-21T14:40:17Z</dcterms:modified>
  <cp:revision>19</cp:revision>
  <dc:subject/>
  <dc:title>Ходит Зорька по лугам                                                                                                                                                                Молоко приносит нам. Жить бы Зорьке в терему,  А она в хлеву  му - му</dc:title>
</cp:coreProperties>
</file>